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153E-BB9C-4477-9E1B-934B89DE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B44A-07C3-4EFB-AAE9-1FE00F53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BCF-62FE-4CB0-A489-035F1FD09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F262-0D89-407B-840C-0ED81374F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0C0-7B91-4498-92DD-85A4398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0A89-9489-425E-A526-724637E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8540-958B-4435-992B-6C4073E1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6635-63D3-4C6B-8196-3CDFCE9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2EC-0C60-47E9-AEF6-29C3CB2D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55F0-2E01-43A7-8697-F0575060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53D6-2E7A-4E92-9EDF-3312D4BA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704A-1A1E-4260-8485-513A673A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91CE4-F257-45B7-A51A-9F3E6A7CB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29400" y="594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8660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A2A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view the Personnel Organiz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4280" y="7632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sto MT"/>
              </a:rPr>
              <a:t>Tactical Employment of Maneuver Battalion S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471600" y="685800"/>
            <a:ext cx="8204040" cy="3003480"/>
            <a:chOff x="471600" y="685800"/>
            <a:chExt cx="8204040" cy="3003480"/>
          </a:xfrm>
        </p:grpSpPr>
        <p:grpSp>
          <p:nvGrpSpPr>
            <p:cNvPr id="143" name=""/>
            <p:cNvGrpSpPr/>
            <p:nvPr/>
          </p:nvGrpSpPr>
          <p:grpSpPr>
            <a:xfrm>
              <a:off x="471600" y="811080"/>
              <a:ext cx="8204040" cy="2721240"/>
              <a:chOff x="471600" y="811080"/>
              <a:chExt cx="8204040" cy="2721240"/>
            </a:xfrm>
          </p:grpSpPr>
          <p:sp>
            <p:nvSpPr>
              <p:cNvPr id="144" name=""/>
              <p:cNvSpPr/>
              <p:nvPr/>
            </p:nvSpPr>
            <p:spPr>
              <a:xfrm>
                <a:off x="4716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2148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958000" y="811080"/>
                <a:ext cx="2717640" cy="27212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6041880" y="2163960"/>
              <a:ext cx="255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343400" y="798480"/>
              <a:ext cx="3216240" cy="2746440"/>
              <a:chOff x="4343400" y="798480"/>
              <a:chExt cx="3216240" cy="2746440"/>
            </a:xfrm>
          </p:grpSpPr>
          <p:sp>
            <p:nvSpPr>
              <p:cNvPr id="149" name=""/>
              <p:cNvSpPr/>
              <p:nvPr/>
            </p:nvSpPr>
            <p:spPr>
              <a:xfrm>
                <a:off x="4343400" y="333216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343400" y="79848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102440" y="333216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102440" y="79848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02440" y="2067120"/>
                <a:ext cx="45720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4465800" y="685800"/>
              <a:ext cx="2981160" cy="3003480"/>
              <a:chOff x="4465800" y="685800"/>
              <a:chExt cx="2981160" cy="3003480"/>
            </a:xfrm>
          </p:grpSpPr>
          <p:grpSp>
            <p:nvGrpSpPr>
              <p:cNvPr id="155" name=""/>
              <p:cNvGrpSpPr/>
              <p:nvPr/>
            </p:nvGrpSpPr>
            <p:grpSpPr>
              <a:xfrm>
                <a:off x="4465800" y="685800"/>
                <a:ext cx="215640" cy="270000"/>
                <a:chOff x="4465800" y="685800"/>
                <a:chExt cx="215640" cy="2700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46580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8144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4465800" y="3419640"/>
                <a:ext cx="215640" cy="269640"/>
                <a:chOff x="4465800" y="3419640"/>
                <a:chExt cx="215640" cy="2696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446580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468144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230960" y="685800"/>
                <a:ext cx="216000" cy="270000"/>
                <a:chOff x="7230960" y="685800"/>
                <a:chExt cx="216000" cy="2700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23096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446960" y="68580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7230960" y="3419640"/>
                <a:ext cx="216000" cy="269640"/>
                <a:chOff x="7230960" y="3419640"/>
                <a:chExt cx="216000" cy="2696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723096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446960" y="341964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7230960" y="2038320"/>
                <a:ext cx="216000" cy="270000"/>
                <a:chOff x="7230960" y="2038320"/>
                <a:chExt cx="216000" cy="270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7230960" y="203832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7446960" y="203832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0" name=""/>
            <p:cNvSpPr/>
            <p:nvPr/>
          </p:nvSpPr>
          <p:spPr>
            <a:xfrm>
              <a:off x="595440" y="1247760"/>
              <a:ext cx="2441520" cy="1828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039320" y="1569960"/>
              <a:ext cx="1544760" cy="1130040"/>
              <a:chOff x="1039320" y="1569960"/>
              <a:chExt cx="1544760" cy="1130040"/>
            </a:xfrm>
          </p:grpSpPr>
          <p:sp>
            <p:nvSpPr>
              <p:cNvPr id="172" name=""/>
              <p:cNvSpPr/>
              <p:nvPr/>
            </p:nvSpPr>
            <p:spPr>
              <a:xfrm>
                <a:off x="1138320" y="1714680"/>
                <a:ext cx="1349280" cy="888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1219320" y="161892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flipV="1">
                <a:off x="1039320" y="161892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224000" y="248436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365120" y="1895400"/>
                <a:ext cx="89532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704960" y="1569960"/>
                <a:ext cx="216000" cy="44640"/>
                <a:chOff x="1704960" y="1569960"/>
                <a:chExt cx="216000" cy="4464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704960" y="156996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1920960" y="156996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0" name=""/>
            <p:cNvGrpSpPr/>
            <p:nvPr/>
          </p:nvGrpSpPr>
          <p:grpSpPr>
            <a:xfrm>
              <a:off x="3798360" y="1577880"/>
              <a:ext cx="1544760" cy="1438560"/>
              <a:chOff x="3798360" y="1577880"/>
              <a:chExt cx="1544760" cy="1438560"/>
            </a:xfrm>
          </p:grpSpPr>
          <p:sp>
            <p:nvSpPr>
              <p:cNvPr id="181" name=""/>
              <p:cNvSpPr/>
              <p:nvPr/>
            </p:nvSpPr>
            <p:spPr>
              <a:xfrm>
                <a:off x="3897360" y="1722600"/>
                <a:ext cx="1349280" cy="888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978360" y="162684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 flipV="1">
                <a:off x="3798360" y="162684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983040" y="249228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124160" y="1903320"/>
                <a:ext cx="89568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"/>
              <p:cNvGrpSpPr/>
              <p:nvPr/>
            </p:nvGrpSpPr>
            <p:grpSpPr>
              <a:xfrm>
                <a:off x="4464000" y="1577880"/>
                <a:ext cx="216000" cy="44640"/>
                <a:chOff x="4464000" y="1577880"/>
                <a:chExt cx="216000" cy="446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64000" y="157788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680000" y="157788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" name=""/>
              <p:cNvSpPr/>
              <p:nvPr/>
            </p:nvSpPr>
            <p:spPr>
              <a:xfrm>
                <a:off x="3897360" y="2725920"/>
                <a:ext cx="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523880" y="855720"/>
              <a:ext cx="1810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486160" y="1968480"/>
              <a:ext cx="18072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4343400" y="33526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343400" y="838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8380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86600" y="2057400"/>
            <a:ext cx="53352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45320" y="117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39720" y="23223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3733920"/>
            <a:ext cx="2666880" cy="289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46640" y="3733920"/>
            <a:ext cx="25135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N S1 (REA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 PERSONNEL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 OPER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AL SUPPOR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UPPORT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3733920"/>
            <a:ext cx="304812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486400" y="3733920"/>
            <a:ext cx="27972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1 (FORW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S, ORDERS, ESTIM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572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odular Postal Compan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1219320"/>
            <a:ext cx="17524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5120" y="123048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1640" y="1633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3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245920" y="1143000"/>
            <a:ext cx="17427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B OPN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L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 PERS ADMIN S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09680" y="2133720"/>
            <a:ext cx="4648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2438280"/>
            <a:ext cx="1371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08760" y="247176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ON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4640" y="28954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20240" y="2496960"/>
            <a:ext cx="15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A PLATOON 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L  PLATOO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2438280"/>
            <a:ext cx="13716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2133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33400" y="2471760"/>
            <a:ext cx="128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OON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94000" y="28954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8200" y="2421000"/>
            <a:ext cx="155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E PLATOON L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L  PLATOO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212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320" y="411480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438280" y="4114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34290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34290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48320" y="4114800"/>
            <a:ext cx="144756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43800" y="4114800"/>
            <a:ext cx="144792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640" y="42242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14600" y="4267080"/>
            <a:ext cx="13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CIVES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616640" y="414828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NG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701840" y="414828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E 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74440" y="4724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360" y="47242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76880" y="47242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3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172720" y="4681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3/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03920" y="216684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0/17/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2160" y="2133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2240" y="2163600"/>
            <a:ext cx="92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/0/17/1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502800" y="798480"/>
            <a:ext cx="144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447L0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02400" y="79848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/0/3/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-1080" y="5062680"/>
            <a:ext cx="241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52D PWR-GEN EQPT 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S HVY WH VEH MECH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36120" y="5062680"/>
            <a:ext cx="182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 42L PSTL SUP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 42L PSTL SPEC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 42L PSTL CLK 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3429000"/>
            <a:ext cx="243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55800" y="5062680"/>
            <a:ext cx="228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42L PSTL 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 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52D PWR-GEN EQPT R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L PSTL SPEC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9480" y="5062680"/>
            <a:ext cx="1550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42L PSTL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L PSTL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42L PSTL 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04920" y="314280"/>
            <a:ext cx="814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Replacement Battalion (OCON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1219320"/>
            <a:ext cx="167652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780000" y="1252440"/>
            <a:ext cx="170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15000" y="1295280"/>
            <a:ext cx="18288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560" y="1481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0/2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98800" y="1328760"/>
            <a:ext cx="175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4 42B S2/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3 42B 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3 92B 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9  OOZ C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 42L ADMIN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177440" y="874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/0/33/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133720"/>
            <a:ext cx="2133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4960" y="21636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676160" y="228600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666880"/>
            <a:ext cx="21337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0480" y="2666880"/>
            <a:ext cx="2134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92G C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914400" y="1828800"/>
            <a:ext cx="373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1828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19520" y="35053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867280" y="4038480"/>
            <a:ext cx="18288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81080" y="4038480"/>
            <a:ext cx="160020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1952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781680" y="3505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14600" y="40384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/S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16600" y="4148280"/>
            <a:ext cx="173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CO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62520" y="4038480"/>
            <a:ext cx="15238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4038480"/>
            <a:ext cx="15238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388620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29200" y="3886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15120" y="403848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41040" y="4114800"/>
            <a:ext cx="36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142640" y="41911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62280" y="4191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17/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76560" y="41911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4495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48520" y="47242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9608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8001000" y="4267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00800" y="48769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5029200"/>
            <a:ext cx="175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705720" y="518148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33412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400800" y="4724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553080" y="4876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05720" y="5028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858000" y="5181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815328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8305920" y="4572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84582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8610480" y="4876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000640" y="4419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153280" y="4572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305560" y="4724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457840" y="48769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537240" y="449568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6 COMPA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8600" y="4495680"/>
            <a:ext cx="167652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4495680"/>
            <a:ext cx="1828800" cy="236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62520" y="4495680"/>
            <a:ext cx="18288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5160" y="4630680"/>
            <a:ext cx="17719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27D LEGAL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66680" y="4505400"/>
            <a:ext cx="189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3 42B OPS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3 88B MVMNT CTRL OF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7 54B NBC STAFF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7 42A OPNS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6 88N MVMNT SUPV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88N TRANS MGT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4 41L ADMIN N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4 42A PERS SVC S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5 88N TRANS MGT COOR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42L SMDIN C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3 88N TRANS MGT COORD 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48320" y="182880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24440" y="4444920"/>
            <a:ext cx="1704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PROP BOOK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9360" y="31428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Replacement Company (OCONU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05120" y="1447920"/>
            <a:ext cx="525780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61440" y="1535040"/>
            <a:ext cx="46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ONUS REPLACEMENT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34340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2012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2860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6232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81680" y="2895480"/>
            <a:ext cx="182880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243828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86400" y="2438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26960" y="29718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Q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62360" y="29718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945680" y="29718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919560" y="2895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O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0384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010280" y="41911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763120" y="3200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8915400" y="33523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685800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70102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610480" y="3200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762760" y="3352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818520" y="1027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/0/37/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25280" y="35924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14/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67000" y="35924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10/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713920" y="35924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884000" y="35924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8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3962520"/>
            <a:ext cx="18288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62320" y="3962520"/>
            <a:ext cx="1904760" cy="160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0" y="4038480"/>
            <a:ext cx="182880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781680" y="4419720"/>
            <a:ext cx="221004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779160" y="4452840"/>
            <a:ext cx="218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7 42A PLATOON SGT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42A PERS SVC SPEC 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553280" y="4038480"/>
            <a:ext cx="1788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6 92Y SECTION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4 92Y ARMOR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26040" y="4021200"/>
            <a:ext cx="183420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2 42B OP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88N TRANS MGMT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88N TRANS MGM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7080" y="4021200"/>
            <a:ext cx="1791720" cy="17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G SR FOOD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92G SR FIRST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54B NBC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G COO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9360" y="22860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Replacement Battal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733920" y="1219320"/>
            <a:ext cx="167616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964680" y="8748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/0/29/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870000" y="1353960"/>
            <a:ext cx="145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HD, REPL BN (CR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1676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5146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15000" y="1828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676520" y="2057400"/>
            <a:ext cx="16761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057400"/>
            <a:ext cx="16761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66680" y="21178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N H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30640" y="2057400"/>
            <a:ext cx="13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7520" y="2346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/0/3/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705720" y="2057400"/>
            <a:ext cx="182880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738480" y="2057400"/>
            <a:ext cx="1791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895480"/>
            <a:ext cx="78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3352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38188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5146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43600" y="2895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82880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42900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238880" y="3200400"/>
            <a:ext cx="144792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33720" y="5105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10552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38680" y="5105520"/>
            <a:ext cx="152424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320" y="3733920"/>
            <a:ext cx="152388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28800" y="3733920"/>
            <a:ext cx="152388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5638680"/>
            <a:ext cx="152388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886200" y="5638680"/>
            <a:ext cx="167652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638680" y="5638680"/>
            <a:ext cx="17528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010280" y="3733920"/>
            <a:ext cx="175284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05320" y="487692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0532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487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7080" y="3352680"/>
            <a:ext cx="122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S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93240" y="3336840"/>
            <a:ext cx="116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NISTRY 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659760" y="333684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1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244480" y="333684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480800" y="333684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4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92520" y="3809880"/>
            <a:ext cx="136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6M CHAP AS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1460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514600" y="18288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29000" y="3733920"/>
            <a:ext cx="18288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867280" y="365760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16040" y="3792600"/>
            <a:ext cx="177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SPEC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88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/0/1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776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1/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177800" y="28954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225560" y="287964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3720" y="3792600"/>
            <a:ext cx="1486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2/S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56A CHAPLAI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96960" y="3792600"/>
            <a:ext cx="17856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ASST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PROP BOOK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364120" y="5105520"/>
            <a:ext cx="110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OFF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90160" y="5105520"/>
            <a:ext cx="140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 &amp; ADMI SPT 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5680" y="5164200"/>
            <a:ext cx="10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VMNTS BR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9570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09520" y="533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5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595560" y="53341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21120" y="5697360"/>
            <a:ext cx="1400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OPNS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73600" y="5697360"/>
            <a:ext cx="1736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625720" y="5697360"/>
            <a:ext cx="177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REPL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2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9360" y="314280"/>
            <a:ext cx="844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sto MT"/>
              </a:rPr>
              <a:t>Replacement Comp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905120" y="1295280"/>
            <a:ext cx="4572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091240" y="1447920"/>
            <a:ext cx="423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COMPANY (C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338640" y="9255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/0/23/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038480" y="19810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990720" y="2666880"/>
            <a:ext cx="6172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9907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162920" y="2666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5228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97180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2971800"/>
            <a:ext cx="2133720" cy="762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52280" y="4038480"/>
            <a:ext cx="2286000" cy="1752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71800" y="4114800"/>
            <a:ext cx="259092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172200" y="4419720"/>
            <a:ext cx="24382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381880" y="31240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534520" y="3276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686800" y="34290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248520" y="38862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400440" y="403848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552720" y="41911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6248520" y="3809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6400800" y="38858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553080" y="40384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229240" y="3124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8381880" y="327672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8534160" y="34290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91960" y="298296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599120" y="35053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6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324240" y="3211560"/>
            <a:ext cx="178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NS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0/5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09640" y="3059280"/>
            <a:ext cx="30380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 REP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TO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12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155280" y="4430880"/>
            <a:ext cx="240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7 42A PLATOON SGT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5 42A PERS SVC SGT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SVC SPC 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55600" y="4125960"/>
            <a:ext cx="2430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2 42B OPERATIONS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SVC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3 42A PERS SVC CLK 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6440" y="4049640"/>
            <a:ext cx="2340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6 92Y SUPPLY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A PERS ADMIN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92Y ARMOR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92Y SUPPLY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3 92Y SUPPLY S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80880" y="3142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HQS, Personnel Services Battal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505320" y="1143000"/>
            <a:ext cx="2057400" cy="1066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565440" y="1279440"/>
            <a:ext cx="1844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99520" y="185724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/0/3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019920" y="1066680"/>
            <a:ext cx="259056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79680" y="1066680"/>
            <a:ext cx="2430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5 42B COMMA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4 42B X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3 42B OPNS OFFI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8 42A SR PERS SVC SG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95680" y="22096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2819520"/>
            <a:ext cx="22096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743200" y="3276720"/>
            <a:ext cx="15238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53080" y="2819520"/>
            <a:ext cx="221004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648320" y="3276720"/>
            <a:ext cx="15238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03680" y="3386160"/>
            <a:ext cx="145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427560" y="38606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12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774320" y="3309840"/>
            <a:ext cx="112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NS &amp;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22400" y="384336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9/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99072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0010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63868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2004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28600" y="518148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438280" y="5181480"/>
            <a:ext cx="152424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00600" y="518148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315200" y="5105520"/>
            <a:ext cx="1523880" cy="99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47242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0880" y="544356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743200" y="544500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7040" y="544356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581240" y="5410080"/>
            <a:ext cx="95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540120" y="2955960"/>
            <a:ext cx="210996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63B SR MAINT SUP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54B NBC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6B INTEL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31U SIGNAL INFO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16000" y="2819520"/>
            <a:ext cx="198216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1S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92G SR FOOD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92G SR FIRST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A EQUIP REC/PARTS 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G COO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01120" y="7984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/0/24/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>
            <a:off x="67644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Personnel Detach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886200" y="106668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2200" y="914400"/>
            <a:ext cx="22096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24280" y="1981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8620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0080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25909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5238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7242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38880" y="2209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3581280"/>
            <a:ext cx="1600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648320" y="3581280"/>
            <a:ext cx="1828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38880" y="3581280"/>
            <a:ext cx="16002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0988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400800" y="4191120"/>
            <a:ext cx="160020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06668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06668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266688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243792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1932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81952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2590560" y="4572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974880" y="4202280"/>
            <a:ext cx="147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2240" y="2602080"/>
            <a:ext cx="147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897360" y="1077840"/>
            <a:ext cx="16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AC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QUAR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48120" y="26020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462720" y="267804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95840" y="42022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462720" y="4202280"/>
            <a:ext cx="1328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435680" y="3639960"/>
            <a:ext cx="164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41760" y="3639960"/>
            <a:ext cx="1561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635720" y="3639960"/>
            <a:ext cx="170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4B SOFTWARE A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60680" y="914400"/>
            <a:ext cx="2184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O2 420A  MIL PERS 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2D PWR-GEN EQUIP RE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92Y SUPPLY SPEC/ARM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2209680"/>
            <a:ext cx="5715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177440" y="72216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/1/49/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707360" y="1687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/1/5/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35480" y="320040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2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799520" y="32115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2/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98280" y="32115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1/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659600" y="481176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904040" y="510552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209320" y="52927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6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62120" y="5638680"/>
            <a:ext cx="220968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657600" y="5562720"/>
            <a:ext cx="24382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629400" y="5562720"/>
            <a:ext cx="220968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962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11480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96252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1480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55627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571500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33376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486040" y="4572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7057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010280" y="5257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05720" y="5334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010280" y="54864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83059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8610480" y="4572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8000640" y="4419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83059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785840" y="48592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861800" y="50878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9040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224120" y="48592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81320" y="50878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9862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/0/4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49880" y="5621400"/>
            <a:ext cx="18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44280" y="5621400"/>
            <a:ext cx="239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75F PERS INFO SYS MGT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5F PERS INFO SYS MGT SP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75F PERS INFO SYS MGT CLK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693480" y="5621400"/>
            <a:ext cx="183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6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67644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Personnel Gro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581280" y="990720"/>
            <a:ext cx="221004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855960" y="974880"/>
            <a:ext cx="17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HD, PERS G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57200" y="1066680"/>
            <a:ext cx="220968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477120" y="1066680"/>
            <a:ext cx="2209680" cy="129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1828800"/>
            <a:ext cx="14479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 HQ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743200" y="1828800"/>
            <a:ext cx="16765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66880" y="2895480"/>
            <a:ext cx="1752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64832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352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086600" y="2895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33520" y="3429000"/>
            <a:ext cx="175248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666880" y="3429000"/>
            <a:ext cx="1752840" cy="91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48320" y="3352680"/>
            <a:ext cx="175248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352680" y="1600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3526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67280" y="1600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447920" y="266688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44792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077320" y="2666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086600" y="3429000"/>
            <a:ext cx="175248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410080" y="4343400"/>
            <a:ext cx="175284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238880" y="4267080"/>
            <a:ext cx="175284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33520" y="5181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666880" y="5181480"/>
            <a:ext cx="175284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00600" y="5181480"/>
            <a:ext cx="175248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33520" y="5638680"/>
            <a:ext cx="182880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438280" y="5638680"/>
            <a:ext cx="221004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724280" y="5638680"/>
            <a:ext cx="1981440" cy="10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79640" y="1811160"/>
            <a:ext cx="145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24400" y="297180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1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898000" y="295416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2/S-3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031360" y="2954160"/>
            <a:ext cx="97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4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377840" y="2971800"/>
            <a:ext cx="96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D OPS 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641560" y="4327560"/>
            <a:ext cx="107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OPS DI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5320" y="1066680"/>
            <a:ext cx="1780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6  42B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DEP COMMA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-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S-2/S-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90A S-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9 OOZ C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L ADMIN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465600" y="1125360"/>
            <a:ext cx="218484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DE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54B DECO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63B LT WH VEH M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G COO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/ARMOR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641400" y="19810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/0/4/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0960" y="201132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7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84000" y="26416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0/3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717720" y="2666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698800" y="266688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1/2/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213400" y="2624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13080" y="5240160"/>
            <a:ext cx="156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ENGTH MGT S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746080" y="5240160"/>
            <a:ext cx="145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INFO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773600" y="5257800"/>
            <a:ext cx="177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FF ACTIONS S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295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5627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293840" y="49100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14/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504960" y="4910040"/>
            <a:ext cx="65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/0/5/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7240" y="4952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/1/11/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074000" y="342900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225560" y="426708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5 42B CHIEF PERS 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42A OPNS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635360" y="3352680"/>
            <a:ext cx="150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3 920A PAT/PB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8 92Y SUPPLY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92Y SUPPLY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629400" y="266688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653920" y="3487680"/>
            <a:ext cx="16484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OPS OFFI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54B NBC STAFF N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0200" y="3413160"/>
            <a:ext cx="1561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27D LEGAL N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37120" y="5697360"/>
            <a:ext cx="183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STR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7 42A SR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65560" y="5622840"/>
            <a:ext cx="22852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4 42B CHIE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3 42B PERS MGT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75F PERS INFO SYS MGT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4B SOFTWARE ANALY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75F PERS INFO SYS MGT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74B SOFTWARE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15280" y="5715000"/>
            <a:ext cx="1834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5 420A MIL PERS TE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6 42A PERS SVC SG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5 42A PERS SVC SGT (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4 42A PERS SVC SPEC (3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L ADMIN SP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3 42A PERS SVC CLK (4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95280" y="4876920"/>
            <a:ext cx="4267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5486400" y="46479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3808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sto MT"/>
              </a:rPr>
              <a:t>Personnel Command (PERSCOM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33920" y="914400"/>
            <a:ext cx="1600200" cy="53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410080" y="167652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343400" y="14479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33920" y="2209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495680" y="32004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95680" y="27432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743200" y="36576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743200" y="32004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43200" y="2743200"/>
            <a:ext cx="12193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267080" y="2590920"/>
            <a:ext cx="0" cy="175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114800" y="2895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434340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590920" y="4495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5800" y="4495680"/>
            <a:ext cx="12193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562720" y="4495680"/>
            <a:ext cx="121896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467480" y="4495680"/>
            <a:ext cx="1219320" cy="38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29528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38080" y="5181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5257800"/>
            <a:ext cx="144756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280" y="5257800"/>
            <a:ext cx="114300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752480" y="59436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43200" y="594360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657600" y="5943600"/>
            <a:ext cx="8380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286000" y="5791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312408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781680" y="5257800"/>
            <a:ext cx="106704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8001000" y="5257800"/>
            <a:ext cx="990720" cy="380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flipV="1">
            <a:off x="6172200" y="48769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64832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4864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4008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3152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229600" y="5943600"/>
            <a:ext cx="68580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724280" y="5791320"/>
            <a:ext cx="388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7242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8610480" y="579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V="1">
            <a:off x="58672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678168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762012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1148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2860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00400" y="57909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077320" y="4876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620120" y="5181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62012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8381880" y="51814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887640" y="876240"/>
            <a:ext cx="135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COM CD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 G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42240" y="1687680"/>
            <a:ext cx="117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742560" y="2209680"/>
            <a:ext cx="120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EF OF STA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690640" y="2803680"/>
            <a:ext cx="107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1, S2, S3, S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031200" y="321156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2807280" y="3641760"/>
            <a:ext cx="1149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MINISTR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04960" y="28306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802400" y="2819520"/>
            <a:ext cx="61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H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802040" y="321156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889560" y="4479840"/>
            <a:ext cx="860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OP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2746440" y="4495680"/>
            <a:ext cx="90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VC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624280" y="4506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468200" y="450684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AL D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2320" y="5316480"/>
            <a:ext cx="101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 &amp; 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417680" y="5316480"/>
            <a:ext cx="1477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NG RANGE 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995880" y="52419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951320" y="5241960"/>
            <a:ext cx="103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T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77680" y="6002280"/>
            <a:ext cx="81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768400" y="6002280"/>
            <a:ext cx="81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 SY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611160" y="6002280"/>
            <a:ext cx="881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UALT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635000" y="6002280"/>
            <a:ext cx="63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QM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472360" y="6031080"/>
            <a:ext cx="60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63440" y="60310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301520" y="603108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S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215200" y="60310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M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277840" y="638496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/1/7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8367120" y="50115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9536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7/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90012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290640" y="53164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2/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5757120" y="32590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1/3/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5775840" y="28782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3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995360" y="23446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3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668640" y="18111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58120" y="280188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0/9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058480" y="32590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058480" y="373392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3795120" y="4554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4/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680" y="4506840"/>
            <a:ext cx="61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/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42080" y="562140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0/7/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661400" y="562140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2/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81368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/2/20/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040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/1/12/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7184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/0/16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63284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0/12/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471280" y="640080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0/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385680" y="63831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2/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300080" y="638316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/0/14/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the Personnel Organization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3520" y="2813040"/>
            <a:ext cx="8204040" cy="3003480"/>
            <a:chOff x="533520" y="2813040"/>
            <a:chExt cx="8204040" cy="3003480"/>
          </a:xfrm>
        </p:grpSpPr>
        <p:grpSp>
          <p:nvGrpSpPr>
            <p:cNvPr id="52" name=""/>
            <p:cNvGrpSpPr/>
            <p:nvPr/>
          </p:nvGrpSpPr>
          <p:grpSpPr>
            <a:xfrm>
              <a:off x="533520" y="2938320"/>
              <a:ext cx="8204040" cy="2721240"/>
              <a:chOff x="533520" y="2938320"/>
              <a:chExt cx="8204040" cy="2721240"/>
            </a:xfrm>
          </p:grpSpPr>
          <p:sp>
            <p:nvSpPr>
              <p:cNvPr id="53" name=""/>
              <p:cNvSpPr/>
              <p:nvPr/>
            </p:nvSpPr>
            <p:spPr>
              <a:xfrm>
                <a:off x="5335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2767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019920" y="2938320"/>
                <a:ext cx="2717640" cy="272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  <a:effectLst>
                <a:outerShdw dist="40186" dir="4303641" blurRad="0" rotWithShape="0">
                  <a:srgbClr val="8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6103800" y="4290840"/>
              <a:ext cx="2557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405320" y="2925720"/>
              <a:ext cx="3216240" cy="2746440"/>
              <a:chOff x="4405320" y="2925720"/>
              <a:chExt cx="3216240" cy="2746440"/>
            </a:xfrm>
          </p:grpSpPr>
          <p:sp>
            <p:nvSpPr>
              <p:cNvPr id="58" name=""/>
              <p:cNvSpPr/>
              <p:nvPr/>
            </p:nvSpPr>
            <p:spPr>
              <a:xfrm>
                <a:off x="4405320" y="54594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405320" y="292572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164360" y="54594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64360" y="292572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164360" y="4194000"/>
                <a:ext cx="45720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4527720" y="2813040"/>
              <a:ext cx="2981160" cy="3003480"/>
              <a:chOff x="4527720" y="2813040"/>
              <a:chExt cx="2981160" cy="300348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4527720" y="2813040"/>
                <a:ext cx="215640" cy="270000"/>
                <a:chOff x="4527720" y="2813040"/>
                <a:chExt cx="215640" cy="27000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52772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474336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527720" y="5546880"/>
                <a:ext cx="215640" cy="269640"/>
                <a:chOff x="4527720" y="5546880"/>
                <a:chExt cx="215640" cy="2696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52772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74336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7292880" y="2813040"/>
                <a:ext cx="216000" cy="270000"/>
                <a:chOff x="7292880" y="2813040"/>
                <a:chExt cx="216000" cy="27000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729288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508880" y="281304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292880" y="5546880"/>
                <a:ext cx="216000" cy="269640"/>
                <a:chOff x="7292880" y="5546880"/>
                <a:chExt cx="216000" cy="26964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729288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508880" y="5546880"/>
                  <a:ext cx="0" cy="269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7292880" y="4165560"/>
                <a:ext cx="216000" cy="270000"/>
                <a:chOff x="7292880" y="4165560"/>
                <a:chExt cx="216000" cy="27000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7292880" y="416556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7508880" y="4165560"/>
                  <a:ext cx="0" cy="2700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9" name=""/>
            <p:cNvSpPr/>
            <p:nvPr/>
          </p:nvSpPr>
          <p:spPr>
            <a:xfrm>
              <a:off x="657360" y="3375000"/>
              <a:ext cx="2441520" cy="18288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1101240" y="3697200"/>
              <a:ext cx="1544760" cy="1130040"/>
              <a:chOff x="1101240" y="3697200"/>
              <a:chExt cx="1544760" cy="1130040"/>
            </a:xfrm>
          </p:grpSpPr>
          <p:sp>
            <p:nvSpPr>
              <p:cNvPr id="81" name=""/>
              <p:cNvSpPr/>
              <p:nvPr/>
            </p:nvSpPr>
            <p:spPr>
              <a:xfrm>
                <a:off x="1200240" y="3841920"/>
                <a:ext cx="1349280" cy="888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1281240" y="374616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flipV="1">
                <a:off x="1101240" y="374616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285920" y="461160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427040" y="4022640"/>
                <a:ext cx="89532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1766880" y="3697200"/>
                <a:ext cx="216000" cy="44640"/>
                <a:chOff x="1766880" y="3697200"/>
                <a:chExt cx="216000" cy="4464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1766880" y="369720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1982880" y="369720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9" name=""/>
            <p:cNvGrpSpPr/>
            <p:nvPr/>
          </p:nvGrpSpPr>
          <p:grpSpPr>
            <a:xfrm>
              <a:off x="3860280" y="3705120"/>
              <a:ext cx="1544760" cy="1438560"/>
              <a:chOff x="3860280" y="3705120"/>
              <a:chExt cx="1544760" cy="1438560"/>
            </a:xfrm>
          </p:grpSpPr>
          <p:sp>
            <p:nvSpPr>
              <p:cNvPr id="90" name=""/>
              <p:cNvSpPr/>
              <p:nvPr/>
            </p:nvSpPr>
            <p:spPr>
              <a:xfrm>
                <a:off x="3959280" y="3849840"/>
                <a:ext cx="1349280" cy="8888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4040280" y="3754080"/>
                <a:ext cx="118728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flipV="1">
                <a:off x="3860280" y="3754080"/>
                <a:ext cx="1544760" cy="1081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044960" y="4619520"/>
                <a:ext cx="1187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186080" y="4030560"/>
                <a:ext cx="895680" cy="527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" name=""/>
              <p:cNvGrpSpPr/>
              <p:nvPr/>
            </p:nvGrpSpPr>
            <p:grpSpPr>
              <a:xfrm>
                <a:off x="4525920" y="3705120"/>
                <a:ext cx="216000" cy="44640"/>
                <a:chOff x="4525920" y="3705120"/>
                <a:chExt cx="216000" cy="4464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4525920" y="370512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741920" y="3705120"/>
                  <a:ext cx="0" cy="4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3959280" y="4853160"/>
                <a:ext cx="0" cy="290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1569240" y="2957400"/>
              <a:ext cx="620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BS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45200" y="4070520"/>
              <a:ext cx="6051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entury Gothic"/>
                </a:rPr>
                <a:t>FL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7086600" y="2971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19112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5410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3400" y="297180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5410080"/>
            <a:ext cx="6094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: Review the Personnel Organization Stru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s:  Given access to FM 12-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the Personnel Management Centers (PM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 Identified the Operational Personne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s (con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Identified the Personnel Command and Control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alion S1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363680"/>
            <a:ext cx="8229600" cy="2097000"/>
            <a:chOff x="457200" y="1363680"/>
            <a:chExt cx="8229600" cy="2097000"/>
          </a:xfrm>
        </p:grpSpPr>
        <p:cxnSp>
          <p:nvCxnSpPr>
            <p:cNvPr id="116" name="_s24601"/>
            <p:cNvCxnSpPr>
              <a:stCxn id="117" idx="0"/>
              <a:endCxn id="118" idx="2"/>
            </p:cNvCxnSpPr>
            <p:nvPr/>
          </p:nvCxnSpPr>
          <p:spPr>
            <a:xfrm flipV="1" rot="16200000">
              <a:off x="5897880" y="493560"/>
              <a:ext cx="229320" cy="288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24600"/>
            <p:cNvCxnSpPr>
              <a:stCxn id="120" idx="0"/>
              <a:endCxn id="118" idx="2"/>
            </p:cNvCxnSpPr>
            <p:nvPr/>
          </p:nvCxnSpPr>
          <p:spPr>
            <a:xfrm flipV="1">
              <a:off x="4572000" y="1820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1" name="_s24599"/>
            <p:cNvCxnSpPr>
              <a:stCxn id="122" idx="0"/>
              <a:endCxn id="118" idx="2"/>
            </p:cNvCxnSpPr>
            <p:nvPr/>
          </p:nvCxnSpPr>
          <p:spPr>
            <a:xfrm flipH="1" flipV="1" rot="5400000">
              <a:off x="3017520" y="494640"/>
              <a:ext cx="229320" cy="2880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24595"/>
            <p:cNvSpPr/>
            <p:nvPr/>
          </p:nvSpPr>
          <p:spPr>
            <a:xfrm>
              <a:off x="3214800" y="1363680"/>
              <a:ext cx="2714400" cy="457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 OFFIC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_s24596"/>
            <p:cNvSpPr/>
            <p:nvPr/>
          </p:nvSpPr>
          <p:spPr>
            <a:xfrm>
              <a:off x="457200" y="2049480"/>
              <a:ext cx="24685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IT SUPPOR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_s24597"/>
            <p:cNvSpPr/>
            <p:nvPr/>
          </p:nvSpPr>
          <p:spPr>
            <a:xfrm>
              <a:off x="3336840" y="2049480"/>
              <a:ext cx="24703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_s24598"/>
            <p:cNvSpPr/>
            <p:nvPr/>
          </p:nvSpPr>
          <p:spPr>
            <a:xfrm>
              <a:off x="6218280" y="2049480"/>
              <a:ext cx="2468520" cy="711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ONN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37560" y="2819160"/>
              <a:ext cx="241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JUDICIAL &amp; NONJUDICIAL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IONS/COURTS &amp; BO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LIMIN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443160" y="2819520"/>
            <a:ext cx="1708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L/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NK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19520"/>
            <a:ext cx="2954520" cy="31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 ACCOUN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LISTED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NEL DATAB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M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&amp; LE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S FOR: COMM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, CHAPLAIN ACTIVITI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MANAGEMENT, STRAGG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6440" y="313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ttalion S1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90512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11480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81480" y="4114800"/>
            <a:ext cx="335304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1828800"/>
            <a:ext cx="289584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20937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16400" y="2325600"/>
            <a:ext cx="27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39720" y="235116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9320" y="4114800"/>
            <a:ext cx="2472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L/DISTRIB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NK 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48360" y="4175280"/>
            <a:ext cx="3154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UDICIAL &amp; NONJUDI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TIONS/COURTS &amp; BO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IMIN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76440" y="31428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Battalion S1 Organ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523880"/>
            <a:ext cx="2590560" cy="152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01360" y="1944720"/>
            <a:ext cx="205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4280" y="1523880"/>
            <a:ext cx="3657600" cy="487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67400" y="1611360"/>
            <a:ext cx="3714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ACCOUN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ENGTH REPOR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READIN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SUALTY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LISTED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FICER MANAGE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DATABAS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LACEMENT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WARDS &amp; DECO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Y &amp; LEA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FETY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ORDINATES FOR: COMMAND INFO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PLAIN ACTIVITIES, STR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AGEMENT, STRAGGLER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6T15:09:24Z</dcterms:created>
  <dc:creator>ADG</dc:creator>
  <dc:description/>
  <dc:language>en-US</dc:language>
  <cp:lastModifiedBy>Administrator</cp:lastModifiedBy>
  <cp:lastPrinted>1999-06-28T14:58:46Z</cp:lastPrinted>
  <dcterms:modified xsi:type="dcterms:W3CDTF">2005-08-17T18:08:29Z</dcterms:modified>
  <cp:revision>2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A\CCA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  <property fmtid="{D5CDD505-2E9C-101B-9397-08002B2CF9AE}" pid="22" name="_AdHocReviewCycleID">
    <vt:r8>-1378173899</vt:r8>
  </property>
  <property fmtid="{D5CDD505-2E9C-101B-9397-08002B2CF9AE}" pid="23" name="_AuthorEmail">
    <vt:lpwstr>herbert.m.lenton@us.army.mil</vt:lpwstr>
  </property>
  <property fmtid="{D5CDD505-2E9C-101B-9397-08002B2CF9AE}" pid="24" name="_AuthorEmailDisplayName">
    <vt:lpwstr>Lenton, Herbert SFC</vt:lpwstr>
  </property>
  <property fmtid="{D5CDD505-2E9C-101B-9397-08002B2CF9AE}" pid="25" name="_EmailSubject">
    <vt:lpwstr>At LAST!!!!!</vt:lpwstr>
  </property>
  <property fmtid="{D5CDD505-2E9C-101B-9397-08002B2CF9AE}" pid="26" name="_ReviewingToolsShownOnce">
    <vt:lpwstr/>
  </property>
</Properties>
</file>